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C10-5C73-4CE8-BFD2-F03E0638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B7A-ABEB-41AE-BB1F-20782589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805E-621B-4C1E-A840-51942C71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D94-6990-4670-A9E8-490B85B7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C8C6-EFFD-4285-8A4D-33649B1A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7CE3-A604-4CEA-9859-7A642814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971C-0100-4360-ABE7-AF451823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2B5D-1F20-4154-855E-34C37990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27B6-EAF4-4419-8DF6-F357265B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DF29-FF6B-4721-B540-3805FCFF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C029-55BA-4366-86C1-FA0DD058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F50-4BFF-4074-A95C-3AA0529E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44A4-81B5-4FB0-A078-040D956C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7D46-57DD-412F-99DA-CC3E9385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B644-E99D-41CB-9BCA-F3D69452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069A-109B-41B4-8E64-55E6784E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044A-3C98-4AF8-BEF2-ED78E041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823-A86F-4DA9-857A-93973255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7346-A35C-4145-9D24-DF277DDD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5B8-4DC3-438A-A08B-E15D2C34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296-D601-42B5-A545-A5197DFD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4D8-CCB2-4AB3-BCD1-EBF8078B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DC0-51A1-4A57-A210-217BA4C5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7B9-7271-4CD8-8CD7-D491F4D0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BFBD-55A9-4027-9426-9137791DDD85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D88A-A9AF-4E01-83CC-6A3108E5ECFB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-2880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fornia Children Services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mprehensiv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arbara Sheehy, Administrato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-19728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Eligible for CCS Medical Therapy Pr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under the age of 2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ho are permanent residents of California or who are enrolled in public schoo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ith cerebral palsy or certain other neuromuscular condi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financial eligibility require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84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process for entering the CCS Pr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’s condition is foun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ferral is mad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CS application is completed by fami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’s eligibility is determin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CS services are provid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132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CCS relate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-Cal and other health pla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-Ca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-Cal is California’s Medicaid program and provides health insurance for low- income families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re are several types of Medi-Cal including fee-for-service, Medi-Cal managed care, share of cost, and waiver program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753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S Carve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 the 1990’s California began to require many children in Medi-Cal to join managed care pla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enrolled in Medi-Cal may have primary care provided through a managed care plan, while services for their CCS eligible conditions are provided through  CCS, “carve out”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8982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y Fami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lifornia’s State Children’s Health Insurance Progra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des health benefits to children of low-income families who do not qualify for Medi-Cal (higher income allowed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pproximately 70% of California’s  children in CCS are covered by Medi-Ca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di-Cal pays for their CCS ca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pproximately 3% of California’s CCS children are covered by Healthy Famil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7% are “CCS only” (paid by State and Co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ith Medi-Cal or  Healthy Families coverage receive primary care through their insurance plan with CCS covering only the care related to their CCS medical condi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ith other private insurance may also have CCS as a secondary insurance for care not covered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6220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S Coordination with other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gular Education/Special Educ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arly Start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gional Cen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RE Parent Networ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825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ies’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amily–centered ca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rdinated, collaborative, community-based and culturally compet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spectful and dignified treatm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ncensored information about your child’s medical condition and other resourc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nfidentiality of information provided to CC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imely processing of eligibility determinations and treatment authoriza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ies’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mplete and sign CCS program form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pply for and cooperate with Medi-Cal if asked to do so by CC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ay any required program fe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eep appointmen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e health insurance when possibl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eep CCS inform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e only CCS approved MD for CCS condi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71520" y="609120"/>
            <a:ext cx="609588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crease participants’ understanding of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lifornia Children Services (CCS)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agnostic and Treatment Program and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dical Therapy Program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pecific services provided by CC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ho is eligible for CC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hat is the proces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ow CCS relates to Medi-Cal and other health pla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CS responsibility to clients, families and the commun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825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family disagrees with treatment deci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ust be in writ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ep one – informal review with County CCS offi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ep two – formal meeting, Fair Hearing, with hearing officer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825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dical Home” is a concept developed by the American Academy of Pediatrics to improve coordination of care for children with special health care needs.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hildren and families receive care from a primary care provider whom they trust, acting in partnership with the family to identify and access medical and non-medical services needed to help children achieve their maximum potential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984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alifornia Children Servic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CS is a statewide program that arranges and pays for medical care for children with  disabling medical condi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stablished in 1927 by the California Legislatu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urrently provides services to 175,000 children in Califor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6984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nostic and Treatment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GNOSTIC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en CCS medical condition is suspected CCS can pay for evaluation to determine diagn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financial eligibility requi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en child has CCS eligible medical condition, CCS may provide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octor visits, hospitalization, surgery, occupational and physical therapy, lab tests, x-rays, equipment, medicine,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rgan transplants, transport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753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cal Case Management is provided for every child in CC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termine eligibil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valuate needs for specific servi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dentify appropriate provid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ordinate care with families and provid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medically necessary ca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31320"/>
            <a:ext cx="73152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priate Treatment Plan, Providers and Fac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view treatment pla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services to experts/specialis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services to CCS approved hospitals and facilit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Special Care Centers – offers team approac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5457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eligible for CCS Treatment Pr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under 21 years of ag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ermanent residents of Califor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amily income less than $40,000 per yea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amily income over $40,000 but cost of medical care will exceed 20% of family incom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hysically disabling medical conditio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Therapy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vides Physical and Occupational Therap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vides Medical Therapy Conference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or children with cerebral palsy and other neurological or musculoskeletal disorde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cated in Medical Therapy Units in public schools in El Cerrito, Alamo, Antioch and Concor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3:27:44Z</dcterms:created>
  <dc:creator>barbara sheehy</dc:creator>
  <dc:description/>
  <dc:language>en-US</dc:language>
  <cp:lastModifiedBy>barbara sheehy</cp:lastModifiedBy>
  <dcterms:modified xsi:type="dcterms:W3CDTF">2008-12-02T22:16:19Z</dcterms:modified>
  <cp:revision>55</cp:revision>
  <dc:subject/>
  <dc:title>PowerPoint Presentation</dc:title>
</cp:coreProperties>
</file>